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tif" ContentType="image/tiff"/>
  <Override PartName="/ppt/media/image1.png" ContentType="image/png"/>
  <Override PartName="/ppt/media/image31.png" ContentType="image/png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jpeg" ContentType="image/jpe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38A7-2905-4F84-A040-9327DA108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A223A-6437-4A63-AD71-2B6A28C4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BCE9D2-ACFB-4440-943F-C81D3894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CBB22F-C67C-4192-86D2-AC1EE6B5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79D139-2685-40CD-A42E-771B939E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E5201B-44A0-4562-9194-6D39FE0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2B247-028B-4B14-B98A-F32BF89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B9C4B2-B0A6-4617-8B2E-EF54BEF2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83D791-FB8C-4C07-8187-1FAA80B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F3BAB-7BC3-4C2D-9597-CBF63F3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1A1B9-FA07-41DE-8750-3B1DFE063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59360-9126-4210-997B-2A985C00FE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272E-29EF-4EAB-8F32-BDBEE14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FA8F-787D-40CF-A9DF-58224F7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0F30-1FAB-4C70-A3D8-AA6737F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C524-8CB0-4D56-8491-378FE07E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F4CE-A16A-41FE-862D-7D36C4BB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093F-5B04-4F15-9DF4-8A369109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C123-1E71-49B8-89EF-8FF21FF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88CEA-A333-43DD-B524-B78CF481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E3F0-AC1C-4097-8FEE-9258109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A9844-9555-426F-8397-FC503173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269F6-2ED1-4C67-B647-22D4B554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51F2-248E-4829-84C7-B1274FE273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E3516-D443-44D8-BA00-CBB63BCE5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69E04-E743-42BE-AFEE-B2D656C45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AFD95-E55E-488F-9830-4CEF4E6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3C014-2BD5-4932-A776-15EB269A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13EDE-B4A6-41B0-9510-2E69E11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B900F4-358A-4F5A-A696-1AE7BF7D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F33E1-7AC7-469D-AF1D-49DE0BDB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A68CD-638D-4B3B-A699-808E9416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1221D-344C-428E-984C-8F3696F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5B948A-7A80-487A-983F-6787D97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2C5ED-AF65-45E8-9685-5DF03EDB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5234C-FF8C-4C45-A4FA-44669EA5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9DF425-AAD4-429B-821F-903C850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64F82-17A4-4511-9A48-A631B9ABC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A154C-3E82-4160-A94C-A61633D19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A4404-B8A0-44C5-8677-550BD523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20A74D-DBB5-4E0B-A1F2-2A20CFE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DD961-9D39-4469-9DA6-E766EC4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8A752-EF73-4BD0-8E59-0FE97DF8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618A7-8596-43A1-BD10-BD8E4A2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DD52F-5CBB-42CA-BFFC-B15C42F0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A11D7-0259-4CDC-97E2-9B2D4A68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B9301-C049-4FD4-80C1-39EB4EAB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F2E13-BEEF-4290-A5AF-7891849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FED79A-A2DE-4E85-945B-85723FFC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EF586-6C17-45C6-B25F-B858CE0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21A22-2E01-4A96-B02E-5D3CDFF84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1F042-9B80-474A-A777-46B324A9D1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D5B0A-5993-4CB9-8A52-648F91C9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58251-48FC-4303-87AE-25CBD48B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13BCF-402E-4195-8056-6E28A44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CE308-D954-4805-8137-1C8F2289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FE64-7B2B-4AD4-90F2-B84E4A6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7263C-8DC1-42D5-B882-D2D35591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1B3B-1E16-4478-A2B8-2A7A75A6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18F8-230A-4874-BDC0-D183397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53C5B-1513-4F83-8672-646E13A2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33579-F141-401F-8F06-C9EA7E62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35E15-2AB9-441E-A6BC-D6815D79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1E32F-1294-449A-A03F-1EAA5D13DA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B2D9-2821-4EDF-8F59-F75081C4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9EE95-3554-4B6A-B659-3D269AB0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4226A-7C09-4728-B9BF-31B3C41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DBF7-E08C-46B6-A51D-02295E5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753A-01C0-4448-A427-DE9C44D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08B25-53C8-4BFA-8D0E-3FC5F5F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F2FEE-3D5F-4D96-87D0-9F8BD968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5FF97-C4AA-49C6-86E4-873E0F96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286E2-D622-48D8-9144-197DD26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2DAFD-FA6A-48D6-B264-B471DDA2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83131-5777-49D6-9370-ED2AF386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215B-A929-4770-9576-0F0C8AA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B50C1-7BA1-45D3-B0D7-C9359F75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3BDC6-3E9D-4F9F-B2B4-0877574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2C64F-ABE9-46FA-9474-2AF6FA40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0D0BA-0B4D-471F-A05E-7DE8CCC7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253AA-38A7-4936-84D0-7CA092A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A36E8-9EB0-4CFB-8634-06E1CEE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D22A-DE96-46A2-BDDF-F7B8451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01A6F-FCC6-4E23-8328-C726F79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048FB-25E5-4478-B4E3-0D73C27B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0D7D5-E64E-4347-AA0A-4A96046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BA15E-5883-49F6-9AD1-024B7214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C6B1-BC04-466A-B3ED-F121BE2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0DBA-87C4-43E3-8E98-F67A9420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062D-E17D-4821-8E4C-C41C13F1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C62A-6C7E-4C2C-83F3-41198A88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D1F1-6D05-48C7-B14F-4D1B138E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F33F-1C22-4990-A871-CE98E1B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FB075-4624-4A40-B4CE-BBBFB6B0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AE3D5-A7D4-4E07-83FF-B59079EC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673F1-2556-4E33-85AE-885C828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7E7F-28B1-4DC3-B64A-C16127F8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3EA1C-4EB9-4420-BAAD-B55D3913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35EDD-35F2-4D1E-ADA9-39204C9C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E4F38-1AC9-4881-A340-A4A312E5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9D7D1-9D45-4A18-9886-73F1053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49591-53FC-44E3-963C-5889CB20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CC0C0-1FBF-4337-BAC8-B19C130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69BC-9A11-4746-8A36-01F703D3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C98A1-8EF3-46C9-8E13-FC26F5E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AB1AC-74A6-4558-B581-4C32F9C2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02B21-E9FE-48FF-B4D8-2F34E174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C3CCE-8AD0-47B7-8FA6-F91C518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89C98-C6E2-4B95-A546-8DEFF09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C6095-B41A-4475-B2E6-2C6086C1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DBF3B-89FC-4A46-BA89-BD4398D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23D6-479C-450A-93BA-4A386794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9698F-DB4B-4F1E-8CA9-A6B0B18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425E6-02B7-41C8-A2AD-55FFD44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8B5B0-E563-44E7-A1A2-68FE3DD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A3EB2-78AF-42DD-B4C2-B91586F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E8908-7BE8-44EE-A55A-EC0DBF17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FEBE7-286F-4D97-BB61-A54D7CA5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C0592-983C-4B3F-91F3-4F21DC18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296F2-F256-4E65-9A4D-6E9F445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5B224-21DD-4559-BE11-5EE3D3D7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2AD2A-6282-45B4-AAC2-79E0DD2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BEE82-DD97-4163-B560-6C65CC08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32A0-A1E7-4288-8F28-16DDB37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DB408-F2A3-4B04-A495-43EB033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C3137-9D84-4451-A4F2-C7CD12D1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51B1F-66DA-4A99-BC57-670560C7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692DD-6FF8-4945-BBBE-54DE381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79210-08EF-4812-9278-6B53DA4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CC9625-1C34-4559-AFE9-7DA5B46D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7C8A2-0F0A-461A-81FA-49615B3F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75C4D-0B0B-491B-B12B-B1679983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8C6C88-1E9A-4BF9-A7E4-57001F2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4528C-2DF5-486C-9204-88C0E53C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5F8E0-FCF8-49E1-8E3C-C9DFD5AE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6BD53-D2B9-4809-8F21-BCD166C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E054B-F092-4AB9-8387-F83DEA5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6397B-0CF1-47D4-8645-2645935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FD8E0-DD37-480F-A7CF-90099497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ABCCF-499B-42E4-BCDE-43F57FAB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A0E27-F7DD-43BF-95A2-7AAB9588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B22E6-6303-4D2B-9382-8CF6B9B6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B84EB-0FF1-411B-8A0E-D8A4CDCF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1C51AB-492F-4ECF-B65D-58DE96D7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2264F-983B-414C-A07B-D6C3DFAC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8A491-5817-472D-BA33-5AB70449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856D1-F65B-4E77-8E47-4167F6D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21878-02FC-4665-A049-1E3D7B2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72D98-302D-4240-A3F8-1472923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CD400-FCC2-4263-8EC4-EC934AF6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BC666-86CB-494F-88AD-03177E22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07ED0-5012-4FF4-8219-046DE7BD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81BBA6-3DAA-4231-A5F4-E01EBB6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3A7241-A366-46B8-BCAB-BB71CEB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E8F2B-F27F-493C-9B58-B26BC3D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C2012-20CB-4CEE-8C90-D7D8A1C3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1AF0F-A004-42F8-B1D2-D934E046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772B3-EED4-4808-BEF7-045F8CA7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7D28AB-D62E-443B-9FCE-67BF4E5C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7CB62-D765-4A9B-B632-54238BA5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1F068-0D36-4F3C-BA0D-6F8F935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C32BA-36CF-427A-BA26-8290B633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1E47B-A6A5-46E7-B152-E382B028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1E600-8E41-483A-9800-93F45F0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0AA2D-3C81-489B-BDEE-DC619A62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9E56B-6E68-42A1-9E75-9287FF2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4F7EE-E464-4198-8A66-D3C04795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FB6B2-5AEE-4B08-B67F-75A390D17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D0E86-B19F-415A-8819-5E51603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1E4A03-EBCF-4A3F-AC3B-9E748B69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FF65C-477D-45CB-ACBD-E9CBD051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6B691-F755-42D3-A690-C6438AF9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CB09A-1574-44FA-B3E3-6DDEB6C8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2E582-EBE8-4269-BB40-65C07F1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1A76E-371F-45F9-A724-B62FC5E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618EE-6968-4A08-A217-F5FD0113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760BB-1473-458A-86C6-89B03A2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2E91C-0360-4E9F-98DD-2AB5C72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9F36F-63FE-44F1-A992-793A80D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4A593-251A-438E-A45B-D170103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F6EE3-089A-4B91-B9A2-3178E00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510F7-212C-403A-9FB1-D308DA02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000F8-FB29-4777-83F8-9C774C68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4F315-FFCF-4295-A33C-B16F011E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C7DB4-0CD7-4434-98E8-948BD88E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F7C7C-1335-43DF-96FC-42F2BE4B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A781F-800F-4ADC-AF1C-E99FE659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95AEB-326F-4BE3-ADE5-4D10C09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62F74-F588-4116-BC14-20DECB0B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EB672-2297-46AD-9290-2A698C43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7D9AC-352B-4C6F-A436-61BB378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57470-6C7F-42F6-ACE8-B31BCBA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CC129-0607-44EA-83EF-27226E0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7DCBB-5A93-469B-A3DD-412DBF87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61A4B-1B6A-4D3D-9905-57FC21E4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BF2DB-41EE-4329-A037-2AF09E94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45C75-2A10-4183-92F8-B9EBA6F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85AEF-23EB-4B0E-AFF7-E9F0F08F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B31431-0101-4950-B4A5-3427C4E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54815-27A1-4363-A559-A295EC1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F0AABA-A227-4A02-BE7C-8E31D3C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BCC94-D9E8-4E15-85DE-A2F1AF8D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C28A0-F0A6-45BA-A7E8-7A2F6AA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4DAB9-2954-41EA-BF19-C332FC0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29769-E782-49C2-81F9-17944568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468AF-C532-46D8-8D58-101F16E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B9FA5-DBC0-4361-B620-1FDBB80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06878-3C6A-4AB5-8A49-525657F0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0421D8-5127-446D-A230-7272F3E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C8EC6-0348-4B92-BFE1-05248775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F7289-E555-4575-84EA-AED48BAF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96AA-47D2-4CBB-B7AC-3DEAF629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E5A26-E12E-4262-BDBF-ACFCA555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EEB5F-6942-4871-821E-8EABD3BC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D0B33-C686-46F3-BAF2-DEFD8105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5FE77-148F-4F53-907B-B0C7DF08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DFD2D-52E7-470C-A632-6FD626B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D2916-D39D-476B-BFDF-2D25ECB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089BA-67A3-4AAE-B667-A80DDA28D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BE51-037B-4D9F-A28B-AF6BD66BC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3A12-F675-4AD2-AF82-F2EB2FD8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496F9-D124-4CC4-9E93-DA2351F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8D12-D7ED-469D-A17E-CD216AFA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13CA-4676-4F25-8E23-DDEE787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166A-3F4A-4B50-A440-3EC20F9D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C147-6F0B-4848-AC36-819AA402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FC79-491F-4A01-B187-3C5F5562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A161-4E66-47C1-8F96-DC915BB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CA14-F74E-48E6-97EB-9930988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267A-E05C-4333-B031-5FBC65F0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6AFE-4A16-4D7D-8FC7-94851B4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B0BEC-BD0E-443D-89E0-5E0A6A0EC6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69F27-905B-464D-B2FF-53519BDA3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6547-DF1F-4A8A-AFAA-35E1BAB2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F013C-0F11-48F6-93FD-F61B16FC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B5F5F-73C0-4900-A7EC-8C6DB56B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B6EA3-5679-45CE-B6D3-0F35B3C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FDD28-6359-4549-BC7D-2645839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4FA50-20B1-43B3-9A8F-95D352D6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6F5E8-2D3D-4BA3-A45C-F24C3D9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6DB9F-821F-43BA-A434-6C879F8D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C2A6E-1762-42E5-B1C4-7988C1E2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A78E1-08D5-40A6-9F4C-81A27B49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D4575-2E44-4F24-844B-0FDEBE4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996A-3A99-460F-97C1-38F79E56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73184-13B2-4C6E-A85E-7EEA40712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8E083-EA41-4F26-84D0-82E4AFD603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37F86-3740-4285-982D-83D791A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708CD-FC13-46FB-8BA0-E1155C0F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EE1AAE-CE85-4C9C-9BEE-D324A77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CC260D-CBEE-4FF8-80E3-DEC70EAD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E6441-44E4-42F8-9FC1-6C9126F9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266567-29EB-4683-BF70-D9FECDD8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FCD597-C0DA-439C-BC17-9ACC33D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78EC4-E481-4633-BAF0-6AAAD92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1FD43-F1DD-4903-A266-17A813A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2E0F5-1176-44C4-8EDD-2F2294F9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09F019-3F60-42D4-80D1-5ED9E977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572720-64BF-4F78-B95D-CC38170B17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1BF7-ED9D-46B6-9EC6-C49124177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75B78-6426-4DE1-8C31-71C87F8F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0A65C-55B6-4613-9435-AEA1076C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FD41-41F0-4871-B9B5-59687F8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FECBC-C90A-41FA-965F-B3984A6B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C3E0-CF3A-4AC5-A533-9212B79D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2354-DB29-4594-85BB-E7BD8BE2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3B73-E285-45B2-A476-24CB11F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6118-40CE-4F67-B025-99B5F4D5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CAE4-9E49-4336-9BFC-E2006B6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FDF58-958F-4610-8231-CC66D860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EE1B-9903-41C5-8E74-7656EF2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60759-528D-42A3-9F56-C104E1A95A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F560BF-0D76-45FF-98A1-E15F5D0D4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B88A-5A68-4636-89DD-626AC85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951C0-691D-42BF-979E-E67F4252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5A81F-4030-4B7C-A219-57DDC0E9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CE274-0A70-4997-8270-CE34D34B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3AC0-4C84-4D54-91B7-166452B3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6162B-A18B-449C-B4AF-EB9586FA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86C49-B470-4B03-8D42-AA81AA12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51CFF-504E-4980-B468-621CB65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5DC0B-EA40-4E76-B374-97CCCDA8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E1328-CD20-47EC-927F-17374053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25724-6E03-4C45-91B7-5BF9EC0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678B75-2B61-41A1-A2B9-97C9ABA49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DE6F9-C127-4465-BFD1-B2DE6100E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3113E-E10E-40C5-8494-E7C4B1B6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B300E-C071-4502-8312-771F3262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D4D-2976-4DA2-9778-C6341F8B1B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08F4-D10C-49A3-8B35-F552EAE253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75EC-595A-4151-8527-FA4AA16BFB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D1F-6588-4727-A0FB-0F0F73D6E5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9AE-2DFA-460C-B305-CA27F38025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6A4-8B41-49E1-AA1A-220086290E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8C1-B837-4DCC-B319-7A7AB1601C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1C37-ADB1-45C2-862A-9585BF987C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1BBB-3F67-4216-B0E9-6322CB65DF3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134B-038B-43A9-8E0B-E5BCE27EF2F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06A9-594F-4D83-B61C-83E98416D6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375C-1640-48C4-A582-577D67F1EE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7DE-6EE7-4778-AD5E-CAE08C1748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1E5E-6139-4088-B069-7E2D775070C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9EE6-95F2-4494-A07D-4238B85A5F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CF70-830B-4DFF-9DBC-CC388C929A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C54-4704-47C3-AFF6-6EA3C32EC0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91F1-A192-44AF-8044-E351A31DFA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F28-60FE-4BE8-82FA-5E4EA8B4BF9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B7D3-CF55-409F-BD75-E40F142735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AF76-4111-453A-AC65-005215F049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F65E-EC80-4092-B595-F1918C900FE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6D62-B2D9-46B3-B0AC-916564FEF2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DD9-767C-44C0-BF67-9655C9072DD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t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460600" y="28684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简 单 的 排 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79440" y="1744560"/>
            <a:ext cx="91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学广角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搭配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457200" y="88740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个数，可以组成多少个没有重复的两位数？想好后，写出来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4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69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4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96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共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个两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38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40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9360" y="68400"/>
            <a:ext cx="5180040" cy="527040"/>
            <a:chOff x="9360" y="68400"/>
            <a:chExt cx="5180040" cy="52704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266760" y="68400"/>
              <a:ext cx="4922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9360" y="163440"/>
              <a:ext cx="692640" cy="274320"/>
              <a:chOff x="9360" y="163440"/>
              <a:chExt cx="692640" cy="27432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90880" y="31644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61520" y="24912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90880" y="180360"/>
                <a:ext cx="106200" cy="13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1520" y="173160"/>
                <a:ext cx="24048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9360" y="26028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" y="24120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9360" y="18216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9360" y="163440"/>
                <a:ext cx="614520" cy="6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1"/>
          <p:cNvSpPr/>
          <p:nvPr/>
        </p:nvSpPr>
        <p:spPr>
          <a:xfrm>
            <a:off x="169920" y="669960"/>
            <a:ext cx="8786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组成两位数，每个两位数的十位数和个位数不能一样，能组成几个两位数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组合 20"/>
          <p:cNvGrpSpPr/>
          <p:nvPr/>
        </p:nvGrpSpPr>
        <p:grpSpPr>
          <a:xfrm>
            <a:off x="668160" y="2309760"/>
            <a:ext cx="3618000" cy="1119240"/>
            <a:chOff x="668160" y="2309760"/>
            <a:chExt cx="3618000" cy="1119240"/>
          </a:xfrm>
        </p:grpSpPr>
        <p:sp>
          <p:nvSpPr>
            <p:cNvPr id="1011" name="AutoShape 27"/>
            <p:cNvSpPr/>
            <p:nvPr/>
          </p:nvSpPr>
          <p:spPr>
            <a:xfrm>
              <a:off x="1533600" y="2309760"/>
              <a:ext cx="2752560" cy="7146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用卡片摆一摆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2" name="Picture 2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668160" y="2666520"/>
              <a:ext cx="528120" cy="76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3" name="矩形 5"/>
          <p:cNvSpPr/>
          <p:nvPr/>
        </p:nvSpPr>
        <p:spPr>
          <a:xfrm>
            <a:off x="1500120" y="3214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6"/>
          <p:cNvSpPr/>
          <p:nvPr/>
        </p:nvSpPr>
        <p:spPr>
          <a:xfrm>
            <a:off x="2143080" y="3214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>
            <a:off x="3143160" y="3214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3786120" y="3214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7" name=""/>
          <p:cNvGraphicFramePr/>
          <p:nvPr/>
        </p:nvGraphicFramePr>
        <p:xfrm>
          <a:off x="5235480" y="1654200"/>
          <a:ext cx="1785960" cy="278604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73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8" name="Picture 4" descr="D:\我的文档-桌面-收藏夹\桌面\00R58PICJbg_1024副本.png"/>
          <p:cNvPicPr/>
          <p:nvPr/>
        </p:nvPicPr>
        <p:blipFill>
          <a:blip r:embed="rId9"/>
          <a:stretch/>
        </p:blipFill>
        <p:spPr>
          <a:xfrm>
            <a:off x="4759200" y="4684680"/>
            <a:ext cx="1500480" cy="150984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27"/>
          <p:cNvSpPr/>
          <p:nvPr/>
        </p:nvSpPr>
        <p:spPr>
          <a:xfrm>
            <a:off x="5897520" y="4684680"/>
            <a:ext cx="3000240" cy="1143000"/>
          </a:xfrm>
          <a:prstGeom prst="wedgeRoundRectCallout">
            <a:avLst>
              <a:gd name="adj1" fmla="val -57319"/>
              <a:gd name="adj2" fmla="val 4277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我发现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可以组成不同的两位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2"/>
          <p:cNvSpPr/>
          <p:nvPr/>
        </p:nvSpPr>
        <p:spPr>
          <a:xfrm>
            <a:off x="587520" y="68400"/>
            <a:ext cx="470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自主尝试，分析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八边形 4"/>
          <p:cNvSpPr/>
          <p:nvPr/>
        </p:nvSpPr>
        <p:spPr>
          <a:xfrm>
            <a:off x="385920" y="78732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组合 20"/>
          <p:cNvGrpSpPr/>
          <p:nvPr/>
        </p:nvGrpSpPr>
        <p:grpSpPr>
          <a:xfrm>
            <a:off x="168120" y="1071720"/>
            <a:ext cx="3189600" cy="1118880"/>
            <a:chOff x="168120" y="1071720"/>
            <a:chExt cx="3189600" cy="1118880"/>
          </a:xfrm>
        </p:grpSpPr>
        <p:sp>
          <p:nvSpPr>
            <p:cNvPr id="1023" name="AutoShape 27"/>
            <p:cNvSpPr/>
            <p:nvPr/>
          </p:nvSpPr>
          <p:spPr>
            <a:xfrm>
              <a:off x="961920" y="1071720"/>
              <a:ext cx="2395800" cy="714600"/>
            </a:xfrm>
            <a:prstGeom prst="wedgeRoundRectCallout">
              <a:avLst>
                <a:gd name="adj1" fmla="val -57319"/>
                <a:gd name="adj2" fmla="val 42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摆得有点乱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4" name="Picture 2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168120" y="1428480"/>
              <a:ext cx="5497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5" name="矩形 4"/>
          <p:cNvSpPr/>
          <p:nvPr/>
        </p:nvSpPr>
        <p:spPr>
          <a:xfrm>
            <a:off x="928800" y="19764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5"/>
          <p:cNvSpPr/>
          <p:nvPr/>
        </p:nvSpPr>
        <p:spPr>
          <a:xfrm>
            <a:off x="1571760" y="19764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"/>
          <p:cNvSpPr/>
          <p:nvPr/>
        </p:nvSpPr>
        <p:spPr>
          <a:xfrm>
            <a:off x="2571840" y="19764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7"/>
          <p:cNvSpPr/>
          <p:nvPr/>
        </p:nvSpPr>
        <p:spPr>
          <a:xfrm>
            <a:off x="3214800" y="19764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4500720" y="690480"/>
          <a:ext cx="1785960" cy="2786040"/>
        </p:xfrm>
        <a:graphic>
          <a:graphicData uri="http://schemas.openxmlformats.org/drawingml/2006/table">
            <a:tbl>
              <a:tblPr/>
              <a:tblGrid>
                <a:gridCol w="892080"/>
                <a:gridCol w="893880"/>
              </a:tblGrid>
              <a:tr h="73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0" name="Picture 4" descr="D:\我的文档-桌面-收藏夹\桌面\00R58PICJbg_1024副本.png"/>
          <p:cNvPicPr/>
          <p:nvPr/>
        </p:nvPicPr>
        <p:blipFill>
          <a:blip r:embed="rId2"/>
          <a:stretch/>
        </p:blipFill>
        <p:spPr>
          <a:xfrm>
            <a:off x="4788000" y="3860640"/>
            <a:ext cx="1500120" cy="1509840"/>
          </a:xfrm>
          <a:prstGeom prst="rect">
            <a:avLst/>
          </a:prstGeom>
          <a:ln w="0">
            <a:noFill/>
          </a:ln>
        </p:spPr>
      </p:pic>
      <p:sp>
        <p:nvSpPr>
          <p:cNvPr id="1031" name="AutoShape 27"/>
          <p:cNvSpPr/>
          <p:nvPr/>
        </p:nvSpPr>
        <p:spPr>
          <a:xfrm>
            <a:off x="6143760" y="3573360"/>
            <a:ext cx="3000240" cy="1285920"/>
          </a:xfrm>
          <a:prstGeom prst="wedgeRoundRectCallout">
            <a:avLst>
              <a:gd name="adj1" fmla="val -57319"/>
              <a:gd name="adj2" fmla="val 4277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我按规律写就不乱了。你也按规律摆一摆吧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1"/>
          <p:cNvSpPr/>
          <p:nvPr/>
        </p:nvSpPr>
        <p:spPr>
          <a:xfrm>
            <a:off x="142920" y="4429080"/>
            <a:ext cx="35719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能组成    个两位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2"/>
          <p:cNvSpPr/>
          <p:nvPr/>
        </p:nvSpPr>
        <p:spPr>
          <a:xfrm>
            <a:off x="1285920" y="450072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3"/>
          <p:cNvSpPr/>
          <p:nvPr/>
        </p:nvSpPr>
        <p:spPr>
          <a:xfrm>
            <a:off x="1349280" y="451332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10"/>
          <p:cNvGrpSpPr/>
          <p:nvPr/>
        </p:nvGrpSpPr>
        <p:grpSpPr>
          <a:xfrm>
            <a:off x="3214800" y="5332320"/>
            <a:ext cx="4519080" cy="954360"/>
            <a:chOff x="3214800" y="5332320"/>
            <a:chExt cx="4519080" cy="954360"/>
          </a:xfrm>
        </p:grpSpPr>
        <p:sp>
          <p:nvSpPr>
            <p:cNvPr id="1036" name="AutoShape 27"/>
            <p:cNvSpPr/>
            <p:nvPr/>
          </p:nvSpPr>
          <p:spPr>
            <a:xfrm>
              <a:off x="3214800" y="5418000"/>
              <a:ext cx="3376440" cy="868680"/>
            </a:xfrm>
            <a:prstGeom prst="wedgeRoundRectCallout">
              <a:avLst>
                <a:gd name="adj1" fmla="val 60425"/>
                <a:gd name="adj2" fmla="val 8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样做才能不重不漏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7" name="Picture 2" descr="D:\我的文档-桌面-收藏夹\桌面\17.jpg"/>
            <p:cNvPicPr/>
            <p:nvPr/>
          </p:nvPicPr>
          <p:blipFill>
            <a:blip r:embed="rId3"/>
            <a:stretch/>
          </p:blipFill>
          <p:spPr>
            <a:xfrm flipH="1">
              <a:off x="6996960" y="5332320"/>
              <a:ext cx="736920" cy="88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39" name="圆角矩形 47" descr=""/>
            <p:cNvPicPr/>
            <p:nvPr/>
          </p:nvPicPr>
          <p:blipFill>
            <a:blip r:embed="rId4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4" name="椭圆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62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66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70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2"/>
          <p:cNvGrpSpPr/>
          <p:nvPr/>
        </p:nvGrpSpPr>
        <p:grpSpPr>
          <a:xfrm>
            <a:off x="-23760" y="46080"/>
            <a:ext cx="5513400" cy="525600"/>
            <a:chOff x="-23760" y="46080"/>
            <a:chExt cx="5513400" cy="525600"/>
          </a:xfrm>
        </p:grpSpPr>
        <p:pic>
          <p:nvPicPr>
            <p:cNvPr id="105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252000" y="46080"/>
              <a:ext cx="52376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组合 4"/>
            <p:cNvGrpSpPr/>
            <p:nvPr/>
          </p:nvGrpSpPr>
          <p:grpSpPr>
            <a:xfrm>
              <a:off x="-23760" y="141120"/>
              <a:ext cx="738000" cy="273600"/>
              <a:chOff x="-23760" y="141120"/>
              <a:chExt cx="738000" cy="273600"/>
            </a:xfrm>
          </p:grpSpPr>
          <p:sp>
            <p:nvSpPr>
              <p:cNvPr id="1052" name="椭圆 52"/>
              <p:cNvSpPr/>
              <p:nvPr/>
            </p:nvSpPr>
            <p:spPr>
              <a:xfrm rot="16200000">
                <a:off x="261360" y="292320"/>
                <a:ext cx="1069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470520" y="22176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椭圆 58"/>
              <p:cNvSpPr/>
              <p:nvPr/>
            </p:nvSpPr>
            <p:spPr>
              <a:xfrm rot="16200000">
                <a:off x="261360" y="155880"/>
                <a:ext cx="106920" cy="137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520" y="150120"/>
                <a:ext cx="243720" cy="7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32200"/>
                <a:ext cx="65988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14200"/>
                <a:ext cx="65988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58760"/>
                <a:ext cx="65988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659880" cy="6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0" name="矩形 3"/>
          <p:cNvSpPr/>
          <p:nvPr/>
        </p:nvSpPr>
        <p:spPr>
          <a:xfrm>
            <a:off x="142920" y="984240"/>
            <a:ext cx="87868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    、   和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种颜色给地上的两个城区涂上不同的颜色，一共有多少种涂色的方法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4"/>
          <p:cNvSpPr/>
          <p:nvPr/>
        </p:nvSpPr>
        <p:spPr>
          <a:xfrm>
            <a:off x="611280" y="1198440"/>
            <a:ext cx="571320" cy="35748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5"/>
          <p:cNvSpPr/>
          <p:nvPr/>
        </p:nvSpPr>
        <p:spPr>
          <a:xfrm>
            <a:off x="1401840" y="1198440"/>
            <a:ext cx="571320" cy="357480"/>
          </a:xfrm>
          <a:prstGeom prst="rect">
            <a:avLst/>
          </a:prstGeom>
          <a:solidFill>
            <a:srgbClr val="dad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6"/>
          <p:cNvSpPr/>
          <p:nvPr/>
        </p:nvSpPr>
        <p:spPr>
          <a:xfrm>
            <a:off x="2411280" y="1198440"/>
            <a:ext cx="571680" cy="357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4" name=""/>
          <p:cNvGraphicFramePr/>
          <p:nvPr/>
        </p:nvGraphicFramePr>
        <p:xfrm>
          <a:off x="5967360" y="1687680"/>
          <a:ext cx="2690640" cy="3779640"/>
        </p:xfrm>
        <a:graphic>
          <a:graphicData uri="http://schemas.openxmlformats.org/drawingml/2006/table">
            <a:tbl>
              <a:tblPr/>
              <a:tblGrid>
                <a:gridCol w="1346040"/>
                <a:gridCol w="1344600"/>
              </a:tblGrid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南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5" name="TextBox 9"/>
          <p:cNvSpPr/>
          <p:nvPr/>
        </p:nvSpPr>
        <p:spPr>
          <a:xfrm>
            <a:off x="2122560" y="2711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10"/>
          <p:cNvSpPr/>
          <p:nvPr/>
        </p:nvSpPr>
        <p:spPr>
          <a:xfrm>
            <a:off x="825480" y="44280"/>
            <a:ext cx="44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二、灵活运用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矩形 1"/>
          <p:cNvSpPr/>
          <p:nvPr/>
        </p:nvSpPr>
        <p:spPr>
          <a:xfrm>
            <a:off x="500040" y="789120"/>
            <a:ext cx="73008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 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同学坐成一排合影，有多少种坐法？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3" descr="D:\我的文档-桌面-收藏夹\桌面\2982672_091608047763_2.jpg"/>
          <p:cNvPicPr/>
          <p:nvPr/>
        </p:nvPicPr>
        <p:blipFill>
          <a:blip r:embed="rId1"/>
          <a:stretch/>
        </p:blipFill>
        <p:spPr>
          <a:xfrm>
            <a:off x="826920" y="3573360"/>
            <a:ext cx="1619280" cy="2357640"/>
          </a:xfrm>
          <a:prstGeom prst="rect">
            <a:avLst/>
          </a:prstGeom>
          <a:ln w="0">
            <a:noFill/>
          </a:ln>
        </p:spPr>
      </p:pic>
      <p:sp>
        <p:nvSpPr>
          <p:cNvPr id="1069" name="矩形 5"/>
          <p:cNvSpPr/>
          <p:nvPr/>
        </p:nvSpPr>
        <p:spPr>
          <a:xfrm>
            <a:off x="4071960" y="3929040"/>
            <a:ext cx="4635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种坐法；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名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种坐法。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图片 6" descr="1.tif"/>
          <p:cNvPicPr/>
          <p:nvPr/>
        </p:nvPicPr>
        <p:blipFill>
          <a:blip r:embed="rId2"/>
          <a:stretch/>
        </p:blipFill>
        <p:spPr>
          <a:xfrm flipH="1">
            <a:off x="3143160" y="1430280"/>
            <a:ext cx="314352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071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72" name="圆角矩形 47" descr=""/>
            <p:cNvPicPr/>
            <p:nvPr/>
          </p:nvPicPr>
          <p:blipFill>
            <a:blip r:embed="rId3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3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74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6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61" descr=""/>
              <p:cNvPicPr/>
              <p:nvPr/>
            </p:nvPicPr>
            <p:blipFill>
              <a:blip r:embed="rId5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62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66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67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70" descr=""/>
              <p:cNvPicPr/>
              <p:nvPr/>
            </p:nvPicPr>
            <p:blipFill>
              <a:blip r:embed="rId9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矩形 1"/>
          <p:cNvSpPr/>
          <p:nvPr/>
        </p:nvSpPr>
        <p:spPr>
          <a:xfrm>
            <a:off x="357120" y="896760"/>
            <a:ext cx="86439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从右面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本书中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本，送给小丽、小清各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本，一共有多少种送法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2" descr="D:\我的文档-桌面-收藏夹\桌面\2419558_182434457309_2.jpg"/>
          <p:cNvPicPr/>
          <p:nvPr/>
        </p:nvPicPr>
        <p:blipFill>
          <a:blip r:embed="rId1"/>
          <a:srcRect l="8082" t="32922" r="24840" b="10663"/>
          <a:stretch/>
        </p:blipFill>
        <p:spPr>
          <a:xfrm>
            <a:off x="4572000" y="2262240"/>
            <a:ext cx="4286160" cy="1239840"/>
          </a:xfrm>
          <a:prstGeom prst="rect">
            <a:avLst/>
          </a:prstGeom>
          <a:ln w="0">
            <a:noFill/>
          </a:ln>
        </p:spPr>
      </p:pic>
      <p:sp>
        <p:nvSpPr>
          <p:cNvPr id="1084" name="矩形 3"/>
          <p:cNvSpPr/>
          <p:nvPr/>
        </p:nvSpPr>
        <p:spPr>
          <a:xfrm>
            <a:off x="1214280" y="2643120"/>
            <a:ext cx="33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一共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种送法。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86" name="圆角矩形 47" descr=""/>
            <p:cNvPicPr/>
            <p:nvPr/>
          </p:nvPicPr>
          <p:blipFill>
            <a:blip r:embed="rId2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7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88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57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0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61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70" descr=""/>
              <p:cNvPicPr/>
              <p:nvPr/>
            </p:nvPicPr>
            <p:blipFill>
              <a:blip r:embed="rId8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7" name="Rectangle 64"/>
          <p:cNvSpPr/>
          <p:nvPr/>
        </p:nvSpPr>
        <p:spPr>
          <a:xfrm>
            <a:off x="293760" y="76320"/>
            <a:ext cx="2946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32"/>
          <p:cNvSpPr/>
          <p:nvPr/>
        </p:nvSpPr>
        <p:spPr>
          <a:xfrm>
            <a:off x="277920" y="85392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解决摆数的问题，关键做到不重复不遗漏，可以用列举的方法，先考虑高位，再考虑低位，有顺序地依次排列，一一列举出所有可能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88740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可组成（    ）个两位数，分别（                                       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小棒最多可以摆（     ）个直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合 2"/>
          <p:cNvGrpSpPr/>
          <p:nvPr/>
        </p:nvGrpSpPr>
        <p:grpSpPr>
          <a:xfrm>
            <a:off x="-23760" y="46080"/>
            <a:ext cx="3176640" cy="525600"/>
            <a:chOff x="-23760" y="46080"/>
            <a:chExt cx="3176640" cy="525600"/>
          </a:xfrm>
        </p:grpSpPr>
        <p:pic>
          <p:nvPicPr>
            <p:cNvPr id="1111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23120" y="46080"/>
              <a:ext cx="3029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4"/>
            <p:cNvGrpSpPr/>
            <p:nvPr/>
          </p:nvGrpSpPr>
          <p:grpSpPr>
            <a:xfrm>
              <a:off x="-23760" y="141120"/>
              <a:ext cx="420840" cy="273960"/>
              <a:chOff x="-23760" y="141120"/>
              <a:chExt cx="420840" cy="273960"/>
            </a:xfrm>
          </p:grpSpPr>
          <p:sp>
            <p:nvSpPr>
              <p:cNvPr id="1113" name="椭圆 52"/>
              <p:cNvSpPr/>
              <p:nvPr/>
            </p:nvSpPr>
            <p:spPr>
              <a:xfrm rot="16200000">
                <a:off x="217080" y="30600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480" y="270720"/>
                <a:ext cx="210600" cy="11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58"/>
              <p:cNvSpPr/>
              <p:nvPr/>
            </p:nvSpPr>
            <p:spPr>
              <a:xfrm rot="16200000">
                <a:off x="217080" y="179640"/>
                <a:ext cx="98640" cy="11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480" y="155880"/>
                <a:ext cx="210600" cy="11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8728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5848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956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47760" cy="101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1" name="文本框 7"/>
          <p:cNvSpPr/>
          <p:nvPr/>
        </p:nvSpPr>
        <p:spPr>
          <a:xfrm>
            <a:off x="4662360" y="14940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2"/>
          <p:cNvSpPr/>
          <p:nvPr/>
        </p:nvSpPr>
        <p:spPr>
          <a:xfrm>
            <a:off x="846000" y="1952640"/>
            <a:ext cx="41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"/>
          <p:cNvSpPr/>
          <p:nvPr/>
        </p:nvSpPr>
        <p:spPr>
          <a:xfrm>
            <a:off x="5130720" y="25938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457200" y="88740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好朋友要照像，站成一排有几种站法？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=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答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个人照相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种排列方法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26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7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28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0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1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4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8:24:00Z</dcterms:created>
  <dc:creator/>
  <dc:description/>
  <dc:language>en-US</dc:language>
  <cp:lastModifiedBy>万润仪器贸易公司</cp:lastModifiedBy>
  <dcterms:modified xsi:type="dcterms:W3CDTF">2020-08-21T00:44:2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